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20B8-9C13-4EE9-A0BD-65CAF5937F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6261-5391-46B0-A3A2-152D55F15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C26-23A1-4505-89FA-50E62B01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F2D-A823-4217-AD5F-C0C8C46B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F79-D5E8-4578-A37A-E0A800A1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388-130C-499F-B867-14BD696C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71BE-8140-4E9A-9C4C-B1962781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C5A5-70CC-479C-A895-43A8EEC9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BAEF-710C-4FCF-9388-AD994CFE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03E0-69FA-4879-A47E-B904B3FD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9146-0C14-4B10-B536-6A942BF9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79C8-635A-4A96-A62E-EF5C111D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F50E-19BE-4AAD-A13D-2E2AC0E4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2BF-5EC2-494C-9167-37D5B809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1DA0-8A43-4985-97C2-463B8AE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33CD-081F-48C3-9EA6-1246DE2C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B0F5-7958-42B0-8519-848EF54A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CBC0-EC04-49AD-BC44-E15F1A76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766E-C973-461D-9454-E2F4C545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FFFAB-F99E-4EBA-9336-F8114C17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7268-9D42-44BB-A5EE-0CEE4C14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089F-14B1-406B-B425-D07448C6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F8AF7-6414-4824-A4C6-0053D33B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F722-F5A3-404E-9033-5D46A3AA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DB1-70DA-4EB3-A26B-744CA1BE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93F8-7135-4101-8859-B6A448A9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210C-357B-4E53-976E-054EB854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B6B0-EFD8-4329-AD1D-1D3D03A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58E6-3AE8-4729-831B-7B9CF52D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C385-0389-46B8-A899-6D00DFDC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98114-A33A-44FE-AF7B-2C39BE74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EC562-24A0-4334-A931-C9FFE911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9E892-408B-4444-8AB4-E84D8ED2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66CA-A542-4249-9FBF-956D5C39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9A66-8563-4AF3-B2F6-8E2E0D39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B14-582B-4262-9BE9-83B017EC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790A3-8CD0-4D6C-8F0B-2432C0CE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D860-A3FF-4124-A38D-7A8CFD8D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9E51F-09A1-451B-9CF5-170C33E2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168E-87E0-41D9-9498-95C1CBA5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45588-6B92-4E88-8677-D014814B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105F-463D-4E66-B5C0-89136E28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244E-3488-4163-9840-65A2D628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CD004-A085-4E30-8609-39800506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A6B2-C6EA-477F-A6DA-11858F87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EA7E0-3662-4784-9FA0-299A6023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FB1-6563-4D71-B0F6-E6BC430B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896F-F51A-4C96-8E3E-B974C8E3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DE27D-24C2-489C-9D8E-667099B0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9BA45-33A8-476C-B967-8BD56712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54CAB-BCFA-40E5-B4E6-21EE1F93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D38A7-B810-4906-98CA-36BFC9DB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E0A0B-301F-4CA2-80F3-6F657386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487EE-46F2-406A-A4B2-E9B831BB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2B0B5-45C3-49F2-A6B1-7F5795D9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5200E-DE12-4573-9869-D02632D8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ECF99-CB12-489D-B561-20F071F9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FC4-C204-45DF-BD97-1A3ADB4A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00B6C-B143-4F78-AAD7-4AEE00AD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CFF-9672-4832-BE16-6C8A036C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A470-BA8A-4047-8756-8564400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7B3-9076-4817-AE29-927021B3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D5FB-EA60-4E73-BEC1-68A018CF02A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54C8-4FE9-4D96-A513-79610EF990E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5877-5CFD-41EE-A433-60C7C941981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1106-BDE7-4260-B9F9-760537FA242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944F-8F56-4F4F-8D65-5D445568172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2719440" y="228600"/>
            <a:ext cx="37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МБОУ "СОШ №5» МО «ЛМР»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193920" y="1143000"/>
            <a:ext cx="2756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АЯ ПИЦ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90920" y="2438280"/>
            <a:ext cx="4010040" cy="23814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4"/>
          <p:cNvSpPr/>
          <p:nvPr/>
        </p:nvSpPr>
        <p:spPr>
          <a:xfrm>
            <a:off x="2286000" y="50212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 учитель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е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ajedrez-6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371600" y="914400"/>
            <a:ext cx="7162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КРУЖАЮЩИЙ МИ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россворды, загад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219320"/>
            <a:ext cx="39304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Fol03wVIgC-1280x720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бучение грамот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423360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Г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А буквой «Г» - так шахматисты говорят   (Конь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рыгнет Конь. Подковы звяк!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еобычен каждый шаг: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Буква «Г» и так и сяк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олучается зигзаг!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409720" y="579600"/>
            <a:ext cx="31734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ногозначные сл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304920" y="1905120"/>
            <a:ext cx="3352680" cy="1858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4724280" y="1523880"/>
            <a:ext cx="1371600" cy="952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5"/>
          <p:cNvPicPr/>
          <p:nvPr/>
        </p:nvPicPr>
        <p:blipFill>
          <a:blip r:embed="rId4"/>
          <a:stretch/>
        </p:blipFill>
        <p:spPr>
          <a:xfrm>
            <a:off x="8458200" y="1600200"/>
            <a:ext cx="202572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5"/>
          <a:stretch/>
        </p:blipFill>
        <p:spPr>
          <a:xfrm>
            <a:off x="6248520" y="2666880"/>
            <a:ext cx="1247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Графический диктант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Одна клеточка вправо – поставьте начальную точку,1 – вправо, 1 – вниз, 1 – вправо, 1 – вверх, 1 – вправо, 1 – вниз, 1 – вправо, 1 – вверх, 1 –вправо, 3 – вниз, 1 – влево, 4 – вниз, 1 – вправо, 2 – вниз, 5 – влево, 2 – вверх, 1 – вправо, 4 – вверх, 1 – влево, 3 – вверх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4908600" y="1828800"/>
            <a:ext cx="3628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5c00"/>
                </a:solidFill>
                <a:latin typeface="Verdana"/>
              </a:rPr>
              <a:t>Литературное чт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782800" y="2516040"/>
          <a:ext cx="3578400" cy="1825920"/>
        </p:xfrm>
        <a:graphic>
          <a:graphicData uri="http://schemas.openxmlformats.org/drawingml/2006/table">
            <a:tbl>
              <a:tblPr/>
              <a:tblGrid>
                <a:gridCol w="428760"/>
                <a:gridCol w="449280"/>
                <a:gridCol w="450720"/>
                <a:gridCol w="449280"/>
                <a:gridCol w="450720"/>
                <a:gridCol w="449280"/>
                <a:gridCol w="451080"/>
                <a:gridCol w="449280"/>
              </a:tblGrid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Picture 4" descr="C:\Users\HP\Desktop\pizza-slices-clip-art-images-1024x567.jpg"/>
          <p:cNvPicPr/>
          <p:nvPr/>
        </p:nvPicPr>
        <p:blipFill>
          <a:blip r:embed="rId1"/>
          <a:stretch/>
        </p:blipFill>
        <p:spPr>
          <a:xfrm>
            <a:off x="762120" y="838080"/>
            <a:ext cx="28033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УССКИЙ ЯЗЫ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7" name="Содержимое 4" descr=""/>
          <p:cNvPicPr/>
          <p:nvPr/>
        </p:nvPicPr>
        <p:blipFill>
          <a:blip r:embed="rId1"/>
          <a:stretch/>
        </p:blipFill>
        <p:spPr>
          <a:xfrm>
            <a:off x="506520" y="523800"/>
            <a:ext cx="3943080" cy="4402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найди словарные слова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обведи их красным цвето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спиши слова в тетрадь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 обменяйтесь тетрадями с соседом по плеч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роверь сосед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4" descr="C:\Users\HP\Desktop\pizza-slices-clip-art-images-1024x567.jpg"/>
          <p:cNvPicPr/>
          <p:nvPr/>
        </p:nvPicPr>
        <p:blipFill>
          <a:blip r:embed="rId2"/>
          <a:stretch/>
        </p:blipFill>
        <p:spPr>
          <a:xfrm>
            <a:off x="838080" y="1981080"/>
            <a:ext cx="28036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ЗО,ТЕХНОЛОГ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полос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зор в квадра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иммет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819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ИЯТНОГО АППЕТИТА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40080" cy="31082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1295280" y="914040"/>
            <a:ext cx="3322800" cy="446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6103800" y="3657600"/>
            <a:ext cx="3040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304920" y="152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в шахматы вырабатывает в человеке целеустремленность, волю, выносливость, терпение, способность к концентрации внимания, смелость, расчет, умение быстро и правильно принимать решения в меняющейся обстанов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304920" y="45720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й во всем мире шахматист А.Алехин писа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Шахматы не только знание и логика, но и глубокая фантазия. Посредством шахмат я воспитал свой характер. Шахматы не просто модель жизни, н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дель творчества. Шахматы, прежде всего, учат быть объективными. В шахматах можно сделаться большим мастером, лишь осознав свои ошибки и недостатки. Совершенно также как и в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6" name="Группа 2"/>
          <p:cNvGrpSpPr/>
          <p:nvPr/>
        </p:nvGrpSpPr>
        <p:grpSpPr>
          <a:xfrm>
            <a:off x="762120" y="457200"/>
            <a:ext cx="7543800" cy="5486400"/>
            <a:chOff x="762120" y="457200"/>
            <a:chExt cx="7543800" cy="5486400"/>
          </a:xfrm>
        </p:grpSpPr>
        <p:pic>
          <p:nvPicPr>
            <p:cNvPr id="237" name="Рисунок 24" descr="&amp;Fcy;&amp;ocy;&amp;tcy;&amp;ocy; 16"/>
            <p:cNvPicPr/>
            <p:nvPr/>
          </p:nvPicPr>
          <p:blipFill>
            <a:blip r:embed="rId2"/>
            <a:stretch/>
          </p:blipFill>
          <p:spPr>
            <a:xfrm>
              <a:off x="762120" y="457200"/>
              <a:ext cx="75438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Прямоугольник 4"/>
            <p:cNvSpPr/>
            <p:nvPr/>
          </p:nvSpPr>
          <p:spPr>
            <a:xfrm>
              <a:off x="894600" y="5315040"/>
              <a:ext cx="307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tp://www.kraskidetstva.ru/akcii1/zhivi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ДОБРО ПОЖАЛОВАТЬ!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1" name="Picture 2" descr="C:\Users\HP\Desktop\Pizza-vector-clipart.png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438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Users\HP\Desktop\Pizza-vector-clipart.png"/>
          <p:cNvPicPr/>
          <p:nvPr/>
        </p:nvPicPr>
        <p:blipFill>
          <a:blip r:embed="rId2"/>
          <a:stretch/>
        </p:blipFill>
        <p:spPr>
          <a:xfrm>
            <a:off x="2666880" y="4038480"/>
            <a:ext cx="4106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3000" y="579240"/>
            <a:ext cx="393048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Давайте вспомним ценность шахматных фигур и вспомним состав чисел: 7, 13,9,15?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Ладья – 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Конь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Слон – 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Ферзь – 9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Пешка – 1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C:\Users\HP\Desktop\pkc86jirG.jpg"/>
          <p:cNvPicPr/>
          <p:nvPr/>
        </p:nvPicPr>
        <p:blipFill>
          <a:blip r:embed="rId1"/>
          <a:stretch/>
        </p:blipFill>
        <p:spPr>
          <a:xfrm>
            <a:off x="533520" y="2971800"/>
            <a:ext cx="3930480" cy="184788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9" descr=""/>
          <p:cNvPicPr/>
          <p:nvPr/>
        </p:nvPicPr>
        <p:blipFill>
          <a:blip r:embed="rId2"/>
          <a:stretch/>
        </p:blipFill>
        <p:spPr>
          <a:xfrm>
            <a:off x="5105520" y="2819520"/>
            <a:ext cx="3429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А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09480" y="579240"/>
            <a:ext cx="7974000" cy="15541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"Симметрия.Ось симметрии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Содержимое 8" descr="https://arhivurokov.ru/kopilka/uploads/user_file_566a958be11f1/user_file_566a958be11f1_1_4.png"/>
          <p:cNvPicPr/>
          <p:nvPr/>
        </p:nvPicPr>
        <p:blipFill>
          <a:blip r:embed="rId1"/>
          <a:stretch/>
        </p:blipFill>
        <p:spPr>
          <a:xfrm>
            <a:off x="5189400" y="2406600"/>
            <a:ext cx="2857680" cy="1571760"/>
          </a:xfrm>
          <a:prstGeom prst="rect">
            <a:avLst/>
          </a:prstGeom>
          <a:ln w="0">
            <a:noFill/>
          </a:ln>
        </p:spPr>
      </p:pic>
      <p:pic>
        <p:nvPicPr>
          <p:cNvPr id="252" name="Содержимое 11" descr="https://arhivurokov.ru/kopilka/up/html/2017/05/11/k_5913dbdf638f8/414323_11.png"/>
          <p:cNvPicPr/>
          <p:nvPr/>
        </p:nvPicPr>
        <p:blipFill>
          <a:blip r:embed="rId2"/>
          <a:stretch/>
        </p:blipFill>
        <p:spPr>
          <a:xfrm>
            <a:off x="1066680" y="2590920"/>
            <a:ext cx="21639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Fol03wVIgC-1280x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i2"/>
          <p:cNvPicPr/>
          <p:nvPr/>
        </p:nvPicPr>
        <p:blipFill>
          <a:blip r:embed="rId2"/>
          <a:stretch/>
        </p:blipFill>
        <p:spPr>
          <a:xfrm>
            <a:off x="1981080" y="990720"/>
            <a:ext cx="5181840" cy="51051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8"/>
          <p:cNvSpPr/>
          <p:nvPr/>
        </p:nvSpPr>
        <p:spPr>
          <a:xfrm>
            <a:off x="1219320" y="6019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ахматная до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– 2 =    4 (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 – 2 =   2  (Ч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3 =    10 (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5 =   3   (Р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 + 1 =   8   (Г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+ 2 =  5    (У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 – 2 =  6    (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53000" y="1069920"/>
          <a:ext cx="3930480" cy="1119240"/>
        </p:xfrm>
        <a:graphic>
          <a:graphicData uri="http://schemas.openxmlformats.org/drawingml/2006/table">
            <a:tbl>
              <a:tblPr/>
              <a:tblGrid>
                <a:gridCol w="436680"/>
                <a:gridCol w="334800"/>
                <a:gridCol w="538200"/>
                <a:gridCol w="436680"/>
                <a:gridCol w="438120"/>
                <a:gridCol w="436320"/>
                <a:gridCol w="436680"/>
                <a:gridCol w="436680"/>
                <a:gridCol w="436320"/>
              </a:tblGrid>
              <a:tr h="75096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8280"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84240" rIns="84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240" marR="84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61" name="Picture 2" descr="http://content.foto.mail.ru/mail/hg.bambus/14/h-62.jpg"/>
          <p:cNvPicPr/>
          <p:nvPr/>
        </p:nvPicPr>
        <p:blipFill>
          <a:blip r:embed="rId1"/>
          <a:stretch/>
        </p:blipFill>
        <p:spPr>
          <a:xfrm>
            <a:off x="5181480" y="2514600"/>
            <a:ext cx="29718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8-03-25T10:28:4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